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138-72D4-4712-9E3D-A1FE28F3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5C2-EFB3-473E-AE64-87756C7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1FE-296B-4DA2-A16E-A7E42589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098-7B21-4E47-A16C-820A387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3CC-FE5D-4A6D-AA09-9829B451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857-67DD-4637-8493-61808A4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CED-B87E-4946-8D05-F8D6E1D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915-BB24-4669-98C1-B3A38C7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4F7-E375-48F0-AD0C-7E33FCB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A86-D0F6-4AE1-90F8-817187F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790-41D0-4BC3-88C8-F4350952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92C-FB66-4C1A-92D8-B0E217D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Rectangle 12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Rectangle 13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Line 14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Rectangle 16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8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5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6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7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62C3-CEA5-475E-9E9E-2A77CD7664B1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62320" y="208296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What Is Sociology?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629400" y="990720"/>
            <a:ext cx="1244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57200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Picture 16" descr="Kimmel Brief cover"/>
          <p:cNvPicPr/>
          <p:nvPr/>
        </p:nvPicPr>
        <p:blipFill>
          <a:blip r:embed="rId1"/>
          <a:stretch/>
        </p:blipFill>
        <p:spPr>
          <a:xfrm>
            <a:off x="7035840" y="2247840"/>
            <a:ext cx="1701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bout how often do you pra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veral times a 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nce a 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veral times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nce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ess than once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1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o you think most people would try to take advantage of you if they got a chance, or would they try to be fai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ake advanta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Be fai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included in Instructor’s Manual only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2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someone says that a person is “hardwired” to behave a certain way, what are they referring to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environme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ur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3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816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nifest functions of higher education have changed over time.   Which of the following is a </a:t>
            </a:r>
            <a:r>
              <a:rPr b="1" i="1" lang="en-US" sz="2400" spc="-1" strike="noStrike">
                <a:solidFill>
                  <a:srgbClr val="070c13"/>
                </a:solidFill>
                <a:latin typeface="Arial"/>
              </a:rPr>
              <a:t>manifest function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of higher education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nhanced citizenship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erequisite for getting a good job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scape from parental contro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ew pool of quality dating partne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4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n the context of globalization, “McDonaldization” refers to what aspect of modern social life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orldview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ast foo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cline of religios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sumer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5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>TRIO</dc:creator>
  <dc:description/>
  <dc:language>en-US</dc:language>
  <cp:lastModifiedBy>NuNiTo</cp:lastModifiedBy>
  <dcterms:modified xsi:type="dcterms:W3CDTF">2012-02-21T04:28:33Z</dcterms:modified>
  <cp:revision>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